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10.png" ContentType="image/png"/>
  <Override PartName="/ppt/media/image2.wmf" ContentType="image/x-wmf"/>
  <Override PartName="/ppt/media/image15.png" ContentType="image/png"/>
  <Override PartName="/ppt/media/image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A59A7-2F5A-40CF-8E81-B076616C3B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7399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417680" y="4030920"/>
            <a:ext cx="7399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EE997-4A42-4718-B976-64A18585B4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3610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09560" y="1682280"/>
            <a:ext cx="3610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17680" y="4030920"/>
            <a:ext cx="3610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09560" y="4030920"/>
            <a:ext cx="3610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8DB76-C67B-4D5F-9CBF-45EA68B8F1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2382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19680" y="1682280"/>
            <a:ext cx="2382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21680" y="1682280"/>
            <a:ext cx="2382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417680" y="4030920"/>
            <a:ext cx="2382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19680" y="4030920"/>
            <a:ext cx="2382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21680" y="4030920"/>
            <a:ext cx="2382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13934-E2BF-47FF-B07C-EDC69A44C7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17680" y="1682280"/>
            <a:ext cx="73994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73994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361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09560" y="1682280"/>
            <a:ext cx="361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41360" y="698040"/>
            <a:ext cx="69343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3610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09560" y="1682280"/>
            <a:ext cx="361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17680" y="4030920"/>
            <a:ext cx="3610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417680" y="1682280"/>
            <a:ext cx="73994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7F783-CF05-4F87-BD9C-BE92E54E53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361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09560" y="1682280"/>
            <a:ext cx="3610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209560" y="4030920"/>
            <a:ext cx="3610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3610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09560" y="1682280"/>
            <a:ext cx="3610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17680" y="4030920"/>
            <a:ext cx="7399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7399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417680" y="4030920"/>
            <a:ext cx="7399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3610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09560" y="1682280"/>
            <a:ext cx="3610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17680" y="4030920"/>
            <a:ext cx="3610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209560" y="4030920"/>
            <a:ext cx="3610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2382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919680" y="1682280"/>
            <a:ext cx="2382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21680" y="1682280"/>
            <a:ext cx="2382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417680" y="4030920"/>
            <a:ext cx="2382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919680" y="4030920"/>
            <a:ext cx="2382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421680" y="4030920"/>
            <a:ext cx="2382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73994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81904-4120-46D7-8903-E7839959E9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361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09560" y="1682280"/>
            <a:ext cx="361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BD2EB-823E-44EE-A670-997AEFB6E6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78629-F3DD-4E03-BAE2-BCF2A511E6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41360" y="698040"/>
            <a:ext cx="69343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8F890-14E6-4F93-85CC-CF8793032F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3610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09560" y="1682280"/>
            <a:ext cx="361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417680" y="4030920"/>
            <a:ext cx="3610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BC444-DBE7-46D1-9E36-D26F27DF6B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361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09560" y="1682280"/>
            <a:ext cx="3610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09560" y="4030920"/>
            <a:ext cx="3610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B2901-3845-40EE-B803-159F243A3C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3610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09560" y="1682280"/>
            <a:ext cx="3610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17680" y="4030920"/>
            <a:ext cx="7399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3AE20-E95E-4079-BBDE-82F0CA3AAB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17680" y="1682280"/>
            <a:ext cx="73994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424160" indent="-27972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828800" indent="-2602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233440" indent="-2124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233440" indent="-212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233440" indent="-212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752400" y="0"/>
            <a:ext cx="0" cy="6858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270640" y="6477120"/>
            <a:ext cx="62532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64A5F-6112-48FA-B36F-83AB2657F6C1}" type="slidenum"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955800" y="158760"/>
            <a:ext cx="149040" cy="6540480"/>
            <a:chOff x="955800" y="158760"/>
            <a:chExt cx="149040" cy="6540480"/>
          </a:xfrm>
        </p:grpSpPr>
        <p:sp>
          <p:nvSpPr>
            <p:cNvPr id="5" name="Freeform 7"/>
            <p:cNvSpPr/>
            <p:nvPr/>
          </p:nvSpPr>
          <p:spPr>
            <a:xfrm>
              <a:off x="955800" y="158760"/>
              <a:ext cx="149040" cy="654048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6540480"/>
                <a:gd name="textAreaBottom" fmla="*/ 6540840 h 6540480"/>
              </a:gdLst>
              <a:ahLst/>
              <a:rect l="textAreaLeft" t="textAreaTop" r="textAreaRight" b="textAreaBottom"/>
              <a:pathLst>
                <a:path w="94" h="4120">
                  <a:moveTo>
                    <a:pt x="94" y="0"/>
                  </a:moveTo>
                  <a:lnTo>
                    <a:pt x="0" y="0"/>
                  </a:lnTo>
                  <a:lnTo>
                    <a:pt x="0" y="412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AutoShape 8"/>
            <p:cNvSpPr/>
            <p:nvPr/>
          </p:nvSpPr>
          <p:spPr>
            <a:xfrm rot="5400000">
              <a:off x="979560" y="6582960"/>
              <a:ext cx="96840" cy="132840"/>
            </a:xfrm>
            <a:prstGeom prst="triangle">
              <a:avLst>
                <a:gd name="adj" fmla="val 46574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5" descr="Picture6"/>
          <p:cNvPicPr/>
          <p:nvPr/>
        </p:nvPicPr>
        <p:blipFill>
          <a:blip r:embed="rId2"/>
          <a:stretch/>
        </p:blipFill>
        <p:spPr>
          <a:xfrm>
            <a:off x="0" y="0"/>
            <a:ext cx="878040" cy="6946920"/>
          </a:xfrm>
          <a:prstGeom prst="rect">
            <a:avLst/>
          </a:prstGeom>
          <a:ln w="0">
            <a:noFill/>
          </a:ln>
        </p:spPr>
      </p:pic>
      <p:pic>
        <p:nvPicPr>
          <p:cNvPr id="9" name="Picture 18" descr=""/>
          <p:cNvPicPr/>
          <p:nvPr/>
        </p:nvPicPr>
        <p:blipFill>
          <a:blip r:embed="rId3"/>
          <a:stretch/>
        </p:blipFill>
        <p:spPr>
          <a:xfrm>
            <a:off x="8077320" y="152280"/>
            <a:ext cx="968400" cy="68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c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6"/>
          <p:cNvSpPr/>
          <p:nvPr/>
        </p:nvSpPr>
        <p:spPr>
          <a:xfrm>
            <a:off x="0" y="3048120"/>
            <a:ext cx="9144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Picture5"/>
          <p:cNvPicPr/>
          <p:nvPr/>
        </p:nvPicPr>
        <p:blipFill>
          <a:blip r:embed="rId2"/>
          <a:stretch/>
        </p:blipFill>
        <p:spPr>
          <a:xfrm>
            <a:off x="0" y="3048120"/>
            <a:ext cx="9198000" cy="3809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"/>
          <p:cNvPicPr/>
          <p:nvPr/>
        </p:nvPicPr>
        <p:blipFill>
          <a:blip r:embed="rId3"/>
          <a:stretch/>
        </p:blipFill>
        <p:spPr>
          <a:xfrm>
            <a:off x="25560" y="2075040"/>
            <a:ext cx="1269720" cy="8967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417680" y="1682280"/>
            <a:ext cx="73994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424160" indent="-27972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828800" indent="-2602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233440" indent="-2124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233440" indent="-212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233440" indent="-212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82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6382e"/>
                </a:solidFill>
                <a:latin typeface="Arial"/>
              </a:rPr>
              <a:t>Microsoft Office 2007- Illustrated Introductory, Premium Video Edi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816200" y="1922400"/>
            <a:ext cx="670536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Formatting a Worksheet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hanging Attributes and Alignmen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04720" y="1924200"/>
            <a:ext cx="7399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Alignment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determines the position of data in a cel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eft, right, or cente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pply attributes and alignment options using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Home tab, o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rmat Cells dialog box, or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Mini toolba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4" descr=""/>
          <p:cNvPicPr/>
          <p:nvPr/>
        </p:nvPicPr>
        <p:blipFill>
          <a:blip r:embed="rId1"/>
          <a:stretch/>
        </p:blipFill>
        <p:spPr>
          <a:xfrm>
            <a:off x="2049480" y="2965320"/>
            <a:ext cx="6134040" cy="320688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4"/>
          <p:cNvSpPr/>
          <p:nvPr/>
        </p:nvSpPr>
        <p:spPr>
          <a:xfrm>
            <a:off x="5486400" y="5867280"/>
            <a:ext cx="3048120" cy="628920"/>
          </a:xfrm>
          <a:prstGeom prst="borderCallout1">
            <a:avLst>
              <a:gd name="adj1" fmla="val 18750"/>
              <a:gd name="adj2" fmla="val -8333"/>
              <a:gd name="adj3" fmla="val -77523"/>
              <a:gd name="adj4" fmla="val -38490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 headings centered, bold, and underl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5"/>
          <p:cNvSpPr/>
          <p:nvPr/>
        </p:nvSpPr>
        <p:spPr>
          <a:xfrm>
            <a:off x="1108080" y="5572080"/>
            <a:ext cx="1711440" cy="905040"/>
          </a:xfrm>
          <a:prstGeom prst="borderCallout1">
            <a:avLst>
              <a:gd name="adj1" fmla="val 18750"/>
              <a:gd name="adj2" fmla="val -8333"/>
              <a:gd name="adj3" fmla="val -57018"/>
              <a:gd name="adj4" fmla="val 14359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4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tle centered across colum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554040" y="2209680"/>
            <a:ext cx="1427040" cy="990720"/>
          </a:xfrm>
          <a:prstGeom prst="borderCallout1">
            <a:avLst>
              <a:gd name="adj1" fmla="val 18750"/>
              <a:gd name="adj2" fmla="val -8333"/>
              <a:gd name="adj3" fmla="val 127564"/>
              <a:gd name="adj4" fmla="val 144606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4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tting buttons sel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8"/>
          <p:cNvSpPr/>
          <p:nvPr/>
        </p:nvSpPr>
        <p:spPr>
          <a:xfrm>
            <a:off x="6781680" y="2362320"/>
            <a:ext cx="1600200" cy="609480"/>
          </a:xfrm>
          <a:prstGeom prst="borderCallout1">
            <a:avLst>
              <a:gd name="adj1" fmla="val 18750"/>
              <a:gd name="adj2" fmla="val -8333"/>
              <a:gd name="adj3" fmla="val 199217"/>
              <a:gd name="adj4" fmla="val -131152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4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ge 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er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hanging Attributes and Alignmen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1905120" y="17524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Worksheet with formatting attributes appl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5"/>
          <p:cNvSpPr/>
          <p:nvPr/>
        </p:nvSpPr>
        <p:spPr>
          <a:xfrm>
            <a:off x="2057400" y="2362320"/>
            <a:ext cx="838080" cy="1143000"/>
          </a:xfrm>
          <a:prstGeom prst="line">
            <a:avLst/>
          </a:prstGeom>
          <a:ln w="28440">
            <a:solidFill>
              <a:srgbClr val="e4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6"/>
          <p:cNvSpPr/>
          <p:nvPr/>
        </p:nvSpPr>
        <p:spPr>
          <a:xfrm>
            <a:off x="4343400" y="2286000"/>
            <a:ext cx="1600200" cy="380880"/>
          </a:xfrm>
          <a:prstGeom prst="borderCallout1">
            <a:avLst>
              <a:gd name="adj1" fmla="val 18750"/>
              <a:gd name="adj2" fmla="val -8333"/>
              <a:gd name="adj3" fmla="val 314166"/>
              <a:gd name="adj4" fmla="val -23013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4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er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8"/>
          <p:cNvSpPr/>
          <p:nvPr/>
        </p:nvSpPr>
        <p:spPr>
          <a:xfrm>
            <a:off x="2666880" y="5181480"/>
            <a:ext cx="0" cy="228600"/>
          </a:xfrm>
          <a:prstGeom prst="line">
            <a:avLst/>
          </a:prstGeom>
          <a:ln w="25560">
            <a:solidFill>
              <a:srgbClr val="e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9"/>
          <p:cNvSpPr/>
          <p:nvPr/>
        </p:nvSpPr>
        <p:spPr>
          <a:xfrm>
            <a:off x="2666880" y="5410080"/>
            <a:ext cx="4114800" cy="0"/>
          </a:xfrm>
          <a:prstGeom prst="line">
            <a:avLst/>
          </a:prstGeom>
          <a:ln w="25560">
            <a:solidFill>
              <a:srgbClr val="e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0"/>
          <p:cNvSpPr/>
          <p:nvPr/>
        </p:nvSpPr>
        <p:spPr>
          <a:xfrm flipV="1">
            <a:off x="6781680" y="5181120"/>
            <a:ext cx="0" cy="228600"/>
          </a:xfrm>
          <a:prstGeom prst="line">
            <a:avLst/>
          </a:prstGeom>
          <a:ln w="25560">
            <a:solidFill>
              <a:srgbClr val="e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hanging Attributes and Alignmen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1219320" y="22096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ommon attribute and alignment but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5" descr=""/>
          <p:cNvPicPr/>
          <p:nvPr/>
        </p:nvPicPr>
        <p:blipFill>
          <a:blip r:embed="rId1"/>
          <a:stretch/>
        </p:blipFill>
        <p:spPr>
          <a:xfrm>
            <a:off x="990720" y="3048120"/>
            <a:ext cx="807084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Adjusting Column Width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73994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djust column widths to accommodate data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efault column width is 8.43 characters wide (a little less than one inch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ne or more columns can be adjusted using the mouse, the Ribbon, or the shortcut menu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Adjusting Column Width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73994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Column heading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is the box at the top of each column containing a lette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hanging a column width with the mous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sition the mouse pointer between the column headings of the column and the column to its righ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and drag the resize pointer to the righ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Adjusting Column Width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73994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Using the </a:t>
            </a: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AutoFit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featur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sition the mouse pointer between the column headings of the column and the column to its righ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ouble-click to activate the AutoFit feat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9" descr=""/>
          <p:cNvPicPr/>
          <p:nvPr/>
        </p:nvPicPr>
        <p:blipFill>
          <a:blip r:embed="rId1"/>
          <a:stretch/>
        </p:blipFill>
        <p:spPr>
          <a:xfrm>
            <a:off x="2521080" y="2286000"/>
            <a:ext cx="5192640" cy="389268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Adjusting Column Width </a:t>
            </a:r>
            <a:br>
              <a:rPr sz="3600"/>
            </a:b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AutoShape 5"/>
          <p:cNvSpPr/>
          <p:nvPr/>
        </p:nvSpPr>
        <p:spPr>
          <a:xfrm>
            <a:off x="1066680" y="2514600"/>
            <a:ext cx="1731960" cy="378000"/>
          </a:xfrm>
          <a:prstGeom prst="borderCallout1">
            <a:avLst>
              <a:gd name="adj1" fmla="val 18750"/>
              <a:gd name="adj2" fmla="val -8333"/>
              <a:gd name="adj3" fmla="val 191597"/>
              <a:gd name="adj4" fmla="val 136203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4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ze poi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6"/>
          <p:cNvSpPr/>
          <p:nvPr/>
        </p:nvSpPr>
        <p:spPr>
          <a:xfrm>
            <a:off x="7010280" y="3733920"/>
            <a:ext cx="1905120" cy="990360"/>
          </a:xfrm>
          <a:prstGeom prst="borderCallout1">
            <a:avLst>
              <a:gd name="adj1" fmla="val 18750"/>
              <a:gd name="adj2" fmla="val -8333"/>
              <a:gd name="adj3" fmla="val -87662"/>
              <a:gd name="adj4" fmla="val -14000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4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change column or row forma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2286000" y="167652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Preparing to change the column 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Inserting and Deleting Rows </a:t>
            </a:r>
            <a:br>
              <a:rPr sz="3600"/>
            </a:b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and Column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73994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When you insert a new row, the contents of the worksheet shift down from the newly inserted row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When you insert a new column, the contents of the worksheet shift to the right of the new colum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xcel inserts rows above the cell pointer and columns to the lef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8" descr="FIGC-11"/>
          <p:cNvPicPr/>
          <p:nvPr/>
        </p:nvPicPr>
        <p:blipFill>
          <a:blip r:embed="rId1"/>
          <a:stretch/>
        </p:blipFill>
        <p:spPr>
          <a:xfrm>
            <a:off x="3809880" y="2901960"/>
            <a:ext cx="2895840" cy="2813040"/>
          </a:xfrm>
          <a:prstGeom prst="rect">
            <a:avLst/>
          </a:prstGeom>
          <a:ln w="0">
            <a:noFill/>
          </a:ln>
        </p:spPr>
      </p:pic>
      <p:sp>
        <p:nvSpPr>
          <p:cNvPr id="165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Inserting and Deleting Rows </a:t>
            </a:r>
            <a:br>
              <a:rPr sz="3600"/>
            </a:b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and Column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AutoShape 5"/>
          <p:cNvSpPr/>
          <p:nvPr/>
        </p:nvSpPr>
        <p:spPr>
          <a:xfrm>
            <a:off x="1219320" y="4876920"/>
            <a:ext cx="1731960" cy="685800"/>
          </a:xfrm>
          <a:prstGeom prst="borderCallout1">
            <a:avLst>
              <a:gd name="adj1" fmla="val 18750"/>
              <a:gd name="adj2" fmla="val -8333"/>
              <a:gd name="adj3" fmla="val -55324"/>
              <a:gd name="adj4" fmla="val 16278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4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ire row option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3657600" y="21337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nsert dialog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Inserting and Deleting Rows </a:t>
            </a:r>
            <a:br>
              <a:rPr sz="3600"/>
            </a:b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and Column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73994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eleting rows and column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lect the row or column heading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he Delete button in the Cells group or use the Delete command on the shortcut menu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417680" y="1682280"/>
            <a:ext cx="73994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rmat valu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hange font and font siz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hange attributes and alignmen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djust column width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sert and delete rows and column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Applying Colors, Patterns, </a:t>
            </a:r>
            <a:br>
              <a:rPr sz="3600"/>
            </a:b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and Border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73994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You can add enhancements such as colors, patterns, and borders by using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order and Fill Color buttons in the Font group on the Home tab of the Ribbon and on the Mini toolbar, o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ll tab and Border tab in the Format Cells dialog box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Applying Colors, Patterns, </a:t>
            </a:r>
            <a:br>
              <a:rPr sz="3600"/>
            </a:b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and Border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73994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Cell styles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are pre-designed combinations of formatting attribut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Use the Cell Styles button in the Styles group on the Home tab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7" descr=""/>
          <p:cNvPicPr/>
          <p:nvPr/>
        </p:nvPicPr>
        <p:blipFill>
          <a:blip r:embed="rId1"/>
          <a:stretch/>
        </p:blipFill>
        <p:spPr>
          <a:xfrm>
            <a:off x="1417680" y="2738520"/>
            <a:ext cx="7399440" cy="313992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Applying Colors, Patterns, </a:t>
            </a:r>
            <a:br>
              <a:rPr sz="3600"/>
            </a:b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and Border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1" name="AutoShape 4"/>
          <p:cNvSpPr/>
          <p:nvPr/>
        </p:nvSpPr>
        <p:spPr>
          <a:xfrm>
            <a:off x="1204920" y="4503600"/>
            <a:ext cx="1309680" cy="654120"/>
          </a:xfrm>
          <a:prstGeom prst="borderCallout1">
            <a:avLst>
              <a:gd name="adj1" fmla="val 18750"/>
              <a:gd name="adj2" fmla="val -8333"/>
              <a:gd name="adj3" fmla="val -148787"/>
              <a:gd name="adj4" fmla="val 163879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4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t color lis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5"/>
          <p:cNvSpPr/>
          <p:nvPr/>
        </p:nvSpPr>
        <p:spPr>
          <a:xfrm>
            <a:off x="7315200" y="2362320"/>
            <a:ext cx="1501920" cy="726840"/>
          </a:xfrm>
          <a:prstGeom prst="borderCallout1">
            <a:avLst>
              <a:gd name="adj1" fmla="val 18750"/>
              <a:gd name="adj2" fmla="val -8333"/>
              <a:gd name="adj3" fmla="val 144324"/>
              <a:gd name="adj4" fmla="val -30865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4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 styles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8"/>
          <p:cNvSpPr/>
          <p:nvPr/>
        </p:nvSpPr>
        <p:spPr>
          <a:xfrm>
            <a:off x="7010280" y="5257800"/>
            <a:ext cx="1676520" cy="990720"/>
          </a:xfrm>
          <a:prstGeom prst="borderCallout1">
            <a:avLst>
              <a:gd name="adj1" fmla="val 18750"/>
              <a:gd name="adj2" fmla="val -8333"/>
              <a:gd name="adj3" fmla="val -20833"/>
              <a:gd name="adj4" fmla="val -33995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4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 A1 with light blue 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1295280" y="20574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Viewing fill color using LiveP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Applying Conditional Formatting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73994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xcel can format cells based on specific resul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utomatic application of formatting attributes on cell values is called </a:t>
            </a: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conditional formatting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r example: values above a certain number can be one color and values below a certain number can be another colo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Applying Conditional Formatting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73994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o apply conditional formatting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Conditional Formatting button in the Styles group on the Home tab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int to Highlight Cells Rules, and then choose from “Between”, “Greater Than”, “Less Than”, etc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efine conditions and formatting in the dialog box that open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Applying Conditional Formatting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73994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ata bars are a type of conditional formatting that visually illustrate differences among valu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he Conditional Formatting button in the Styles group, point to Data Bars, and then choose from a formatting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Applying Conditional Formatting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2475000" y="1752480"/>
            <a:ext cx="46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Previewing a Data 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6" descr=""/>
          <p:cNvPicPr/>
          <p:nvPr/>
        </p:nvPicPr>
        <p:blipFill>
          <a:blip r:embed="rId1"/>
          <a:stretch/>
        </p:blipFill>
        <p:spPr>
          <a:xfrm>
            <a:off x="2622600" y="2438280"/>
            <a:ext cx="4989600" cy="374040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7"/>
          <p:cNvSpPr/>
          <p:nvPr/>
        </p:nvSpPr>
        <p:spPr>
          <a:xfrm>
            <a:off x="1066680" y="5410080"/>
            <a:ext cx="1309680" cy="533520"/>
          </a:xfrm>
          <a:prstGeom prst="borderCallout1">
            <a:avLst>
              <a:gd name="adj1" fmla="val 18750"/>
              <a:gd name="adj2" fmla="val -8333"/>
              <a:gd name="adj3" fmla="val -127083"/>
              <a:gd name="adj4" fmla="val 345574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b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8"/>
          <p:cNvSpPr/>
          <p:nvPr/>
        </p:nvSpPr>
        <p:spPr>
          <a:xfrm flipH="1">
            <a:off x="5562720" y="4343400"/>
            <a:ext cx="380880" cy="0"/>
          </a:xfrm>
          <a:prstGeom prst="line">
            <a:avLst/>
          </a:prstGeom>
          <a:ln w="25560">
            <a:solidFill>
              <a:srgbClr val="e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9"/>
          <p:cNvSpPr/>
          <p:nvPr/>
        </p:nvSpPr>
        <p:spPr>
          <a:xfrm>
            <a:off x="5562720" y="4343400"/>
            <a:ext cx="0" cy="1752480"/>
          </a:xfrm>
          <a:prstGeom prst="line">
            <a:avLst/>
          </a:prstGeom>
          <a:ln w="25560">
            <a:solidFill>
              <a:srgbClr val="e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0"/>
          <p:cNvSpPr/>
          <p:nvPr/>
        </p:nvSpPr>
        <p:spPr>
          <a:xfrm>
            <a:off x="5562720" y="6095880"/>
            <a:ext cx="380880" cy="0"/>
          </a:xfrm>
          <a:prstGeom prst="line">
            <a:avLst/>
          </a:prstGeom>
          <a:ln w="25560">
            <a:solidFill>
              <a:srgbClr val="e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Applying Conditional Formatting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4" name="Picture 5" descr=""/>
          <p:cNvPicPr/>
          <p:nvPr/>
        </p:nvPicPr>
        <p:blipFill>
          <a:blip r:embed="rId1"/>
          <a:stretch/>
        </p:blipFill>
        <p:spPr>
          <a:xfrm>
            <a:off x="1417680" y="2684520"/>
            <a:ext cx="7399440" cy="324648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6"/>
          <p:cNvSpPr/>
          <p:nvPr/>
        </p:nvSpPr>
        <p:spPr>
          <a:xfrm>
            <a:off x="1255680" y="1905120"/>
            <a:ext cx="51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esults of Conditional 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Naming and Moving a Shee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73994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By default, an Excel workbook initially contains three worksheets, named Sheet1, Sheet2, and Sheet3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o move to another sheet, click its sheet tab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o make it easier to identify the sheets, you can rename each sheet and add color to the tab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Naming and Moving a Shee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73994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o rename a sheet, double-click its sheet tab, type the new name, and then press [Enter]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o add color to a sheet tab, right-click the sheet tab, point to Tab Color, and then choose a colo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You can change the order of sheets by dragging the sheet tab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73994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pply colors, patterns, and border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pply conditional formatting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Name and move a shee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heck spelling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9" descr=""/>
          <p:cNvPicPr/>
          <p:nvPr/>
        </p:nvPicPr>
        <p:blipFill>
          <a:blip r:embed="rId1"/>
          <a:srcRect l="0" t="-5560" r="48098" b="0"/>
          <a:stretch/>
        </p:blipFill>
        <p:spPr>
          <a:xfrm>
            <a:off x="2320920" y="3276720"/>
            <a:ext cx="5375160" cy="13381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Naming and Moving a Shee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2362320" y="2438280"/>
            <a:ext cx="51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heet during m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7"/>
          <p:cNvSpPr/>
          <p:nvPr/>
        </p:nvSpPr>
        <p:spPr>
          <a:xfrm>
            <a:off x="1295280" y="4952880"/>
            <a:ext cx="1295640" cy="1067040"/>
          </a:xfrm>
          <a:prstGeom prst="borderCallout1">
            <a:avLst>
              <a:gd name="adj1" fmla="val 18750"/>
              <a:gd name="adj2" fmla="val -8333"/>
              <a:gd name="adj3" fmla="val -59375"/>
              <a:gd name="adj4" fmla="val 132351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4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0"/>
          <p:cNvSpPr/>
          <p:nvPr/>
        </p:nvSpPr>
        <p:spPr>
          <a:xfrm>
            <a:off x="3429000" y="5181480"/>
            <a:ext cx="1295280" cy="685800"/>
          </a:xfrm>
          <a:prstGeom prst="borderCallout1">
            <a:avLst>
              <a:gd name="adj1" fmla="val 18750"/>
              <a:gd name="adj2" fmla="val -8333"/>
              <a:gd name="adj3" fmla="val -119212"/>
              <a:gd name="adj4" fmla="val -12254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4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e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a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1"/>
          <p:cNvSpPr/>
          <p:nvPr/>
        </p:nvSpPr>
        <p:spPr>
          <a:xfrm>
            <a:off x="5181480" y="5181480"/>
            <a:ext cx="1295640" cy="685800"/>
          </a:xfrm>
          <a:prstGeom prst="borderCallout1">
            <a:avLst>
              <a:gd name="adj1" fmla="val 18750"/>
              <a:gd name="adj2" fmla="val -8333"/>
              <a:gd name="adj3" fmla="val -120601"/>
              <a:gd name="adj4" fmla="val -102574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4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 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2" descr="j0174966[1]"/>
          <p:cNvPicPr/>
          <p:nvPr/>
        </p:nvPicPr>
        <p:blipFill>
          <a:blip r:embed="rId1"/>
          <a:stretch/>
        </p:blipFill>
        <p:spPr>
          <a:xfrm>
            <a:off x="5079960" y="4114800"/>
            <a:ext cx="3338640" cy="22255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hecking Spelling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26880" y="1560240"/>
            <a:ext cx="7399080" cy="40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pelling checker scans the worksheet and flags possible mistakes and suggests correction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859320" indent="-27000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o check other worksheets in a workbook, display the worksheet and run the spelling checker agai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859320" indent="-27000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dd words that are spelled correctly but are not recognized by the spelling checke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9" descr="FIGC-24"/>
          <p:cNvPicPr/>
          <p:nvPr/>
        </p:nvPicPr>
        <p:blipFill>
          <a:blip r:embed="rId1"/>
          <a:stretch/>
        </p:blipFill>
        <p:spPr>
          <a:xfrm>
            <a:off x="3009960" y="2522520"/>
            <a:ext cx="5067360" cy="3260880"/>
          </a:xfrm>
          <a:prstGeom prst="rect">
            <a:avLst/>
          </a:prstGeom>
          <a:ln w="0">
            <a:noFill/>
          </a:ln>
        </p:spPr>
      </p:pic>
      <p:sp>
        <p:nvSpPr>
          <p:cNvPr id="224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hecking Spelling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AutoShape 6"/>
          <p:cNvSpPr/>
          <p:nvPr/>
        </p:nvSpPr>
        <p:spPr>
          <a:xfrm>
            <a:off x="990720" y="3429000"/>
            <a:ext cx="1295280" cy="685800"/>
          </a:xfrm>
          <a:prstGeom prst="borderCallout1">
            <a:avLst>
              <a:gd name="adj1" fmla="val 18750"/>
              <a:gd name="adj2" fmla="val -8333"/>
              <a:gd name="adj3" fmla="val -32175"/>
              <a:gd name="adj4" fmla="val 161518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4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spe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7"/>
          <p:cNvSpPr/>
          <p:nvPr/>
        </p:nvSpPr>
        <p:spPr>
          <a:xfrm>
            <a:off x="914400" y="4800600"/>
            <a:ext cx="1676520" cy="914400"/>
          </a:xfrm>
          <a:prstGeom prst="borderCallout1">
            <a:avLst>
              <a:gd name="adj1" fmla="val 18750"/>
              <a:gd name="adj2" fmla="val -8333"/>
              <a:gd name="adj3" fmla="val -30208"/>
              <a:gd name="adj4" fmla="val 125662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4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ment word sugg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2855880" y="1752480"/>
            <a:ext cx="51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pelling: English dialog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73994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rmat valu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hange font and font siz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hange attributes and alignmen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djust column width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sert and delete rows and column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73994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pply colors, patterns, and border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pply conditional formatting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Name and move a shee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heck spelling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Formatting Value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73994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format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of a cell determines how the labels and values look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old, italic, dollar signs, commas, etc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rmatting does not change the data only its appearanc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lect a cell or a range, then apply formatting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7" descr="FIGC-02"/>
          <p:cNvPicPr/>
          <p:nvPr/>
        </p:nvPicPr>
        <p:blipFill>
          <a:blip r:embed="rId1"/>
          <a:stretch/>
        </p:blipFill>
        <p:spPr>
          <a:xfrm>
            <a:off x="2733840" y="2057400"/>
            <a:ext cx="4657680" cy="4033800"/>
          </a:xfrm>
          <a:prstGeom prst="rect">
            <a:avLst/>
          </a:prstGeom>
          <a:ln w="0">
            <a:noFill/>
          </a:ln>
        </p:spPr>
      </p:pic>
      <p:sp>
        <p:nvSpPr>
          <p:cNvPr id="99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Formatting Value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2895480" y="14479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ormat Cells dialog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hanging Font and Font Size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6560" y="1671120"/>
            <a:ext cx="73990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font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is the name for a collection of characters with a similar, specific desig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nt size is the physical size of tex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Measured in points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424160" indent="-27972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 point = 1/72 of an inch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e default font in Excel is 11-point Calibri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4" descr="FIGC-05"/>
          <p:cNvPicPr/>
          <p:nvPr/>
        </p:nvPicPr>
        <p:blipFill>
          <a:blip r:embed="rId1"/>
          <a:stretch/>
        </p:blipFill>
        <p:spPr>
          <a:xfrm>
            <a:off x="2762280" y="2362320"/>
            <a:ext cx="4400640" cy="3809880"/>
          </a:xfrm>
          <a:prstGeom prst="rect">
            <a:avLst/>
          </a:prstGeom>
          <a:ln w="0">
            <a:noFill/>
          </a:ln>
        </p:spPr>
      </p:pic>
      <p:sp>
        <p:nvSpPr>
          <p:cNvPr id="106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hanging Font and Font Sizes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2286000" y="16765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ont tab in the Format Cells dialog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7"/>
          <p:cNvSpPr/>
          <p:nvPr/>
        </p:nvSpPr>
        <p:spPr>
          <a:xfrm>
            <a:off x="7250040" y="3886200"/>
            <a:ext cx="1360440" cy="633240"/>
          </a:xfrm>
          <a:prstGeom prst="borderCallout1">
            <a:avLst>
              <a:gd name="adj1" fmla="val 18750"/>
              <a:gd name="adj2" fmla="val -8333"/>
              <a:gd name="adj3" fmla="val -91731"/>
              <a:gd name="adj4" fmla="val -112370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t style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9"/>
          <p:cNvSpPr/>
          <p:nvPr/>
        </p:nvSpPr>
        <p:spPr>
          <a:xfrm>
            <a:off x="5410080" y="3124080"/>
            <a:ext cx="304920" cy="0"/>
          </a:xfrm>
          <a:prstGeom prst="line">
            <a:avLst/>
          </a:prstGeom>
          <a:ln w="25560">
            <a:solidFill>
              <a:srgbClr val="e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0"/>
          <p:cNvSpPr/>
          <p:nvPr/>
        </p:nvSpPr>
        <p:spPr>
          <a:xfrm>
            <a:off x="5715000" y="3124080"/>
            <a:ext cx="0" cy="609840"/>
          </a:xfrm>
          <a:prstGeom prst="line">
            <a:avLst/>
          </a:prstGeom>
          <a:ln w="25560">
            <a:solidFill>
              <a:srgbClr val="e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1"/>
          <p:cNvSpPr/>
          <p:nvPr/>
        </p:nvSpPr>
        <p:spPr>
          <a:xfrm flipH="1">
            <a:off x="5409720" y="3733920"/>
            <a:ext cx="304920" cy="0"/>
          </a:xfrm>
          <a:prstGeom prst="line">
            <a:avLst/>
          </a:prstGeom>
          <a:ln w="25560">
            <a:solidFill>
              <a:srgbClr val="e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2"/>
          <p:cNvSpPr/>
          <p:nvPr/>
        </p:nvSpPr>
        <p:spPr>
          <a:xfrm>
            <a:off x="7238880" y="4952880"/>
            <a:ext cx="1360440" cy="633600"/>
          </a:xfrm>
          <a:prstGeom prst="borderCallout1">
            <a:avLst>
              <a:gd name="adj1" fmla="val 18750"/>
              <a:gd name="adj2" fmla="val -8333"/>
              <a:gd name="adj3" fmla="val -43861"/>
              <a:gd name="adj4" fmla="val -72226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4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iew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3"/>
          <p:cNvSpPr/>
          <p:nvPr/>
        </p:nvSpPr>
        <p:spPr>
          <a:xfrm>
            <a:off x="7238880" y="2133720"/>
            <a:ext cx="1676520" cy="1218960"/>
          </a:xfrm>
          <a:prstGeom prst="borderCallout1">
            <a:avLst>
              <a:gd name="adj1" fmla="val 18750"/>
              <a:gd name="adj2" fmla="val -8333"/>
              <a:gd name="adj3" fmla="val 76824"/>
              <a:gd name="adj4" fmla="val -52745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4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a custom font size or select from the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4"/>
          <p:cNvSpPr/>
          <p:nvPr/>
        </p:nvSpPr>
        <p:spPr>
          <a:xfrm>
            <a:off x="1077840" y="2514600"/>
            <a:ext cx="1360440" cy="990720"/>
          </a:xfrm>
          <a:prstGeom prst="borderCallout1">
            <a:avLst>
              <a:gd name="adj1" fmla="val 18750"/>
              <a:gd name="adj2" fmla="val -8333"/>
              <a:gd name="adj3" fmla="val 70032"/>
              <a:gd name="adj4" fmla="val 149356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4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ly selected f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2" descr=""/>
          <p:cNvPicPr/>
          <p:nvPr/>
        </p:nvPicPr>
        <p:blipFill>
          <a:blip r:embed="rId1"/>
          <a:srcRect l="0" t="0" r="21326" b="-634"/>
          <a:stretch/>
        </p:blipFill>
        <p:spPr>
          <a:xfrm>
            <a:off x="2057400" y="3048120"/>
            <a:ext cx="5821200" cy="324468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4"/>
          <p:cNvSpPr/>
          <p:nvPr/>
        </p:nvSpPr>
        <p:spPr>
          <a:xfrm>
            <a:off x="3733920" y="2362320"/>
            <a:ext cx="3954240" cy="377640"/>
          </a:xfrm>
          <a:prstGeom prst="borderCallout1">
            <a:avLst>
              <a:gd name="adj1" fmla="val 18750"/>
              <a:gd name="adj2" fmla="val -8333"/>
              <a:gd name="adj3" fmla="val 307143"/>
              <a:gd name="adj4" fmla="val -17625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4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t and size of active cell or 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5"/>
          <p:cNvSpPr/>
          <p:nvPr/>
        </p:nvSpPr>
        <p:spPr>
          <a:xfrm flipH="1">
            <a:off x="3504960" y="2514600"/>
            <a:ext cx="152280" cy="990720"/>
          </a:xfrm>
          <a:prstGeom prst="line">
            <a:avLst/>
          </a:prstGeom>
          <a:ln w="28440">
            <a:solidFill>
              <a:srgbClr val="e4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hanging Font and Font Sizes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1905120" y="17524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Worksheet with formatted title and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j0197564[1]"/>
          <p:cNvPicPr/>
          <p:nvPr/>
        </p:nvPicPr>
        <p:blipFill>
          <a:blip r:embed="rId1"/>
          <a:stretch/>
        </p:blipFill>
        <p:spPr>
          <a:xfrm>
            <a:off x="6404040" y="4506840"/>
            <a:ext cx="2435040" cy="21988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hanging Attributes and Alignmen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04720" y="1924200"/>
            <a:ext cx="7399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ttributes are styling formats such as bold, italics, and underlining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e Format Painter allows you to copy all formatting attributes of selected cells and apply them to other cell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Use to copy multiple format settings or individual on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5T20:50:52Z</dcterms:created>
  <dc:creator>Phil</dc:creator>
  <dc:description/>
  <dc:language>en-US</dc:language>
  <cp:lastModifiedBy>Phil Schneider</cp:lastModifiedBy>
  <dcterms:modified xsi:type="dcterms:W3CDTF">2012-02-27T00:57:43Z</dcterms:modified>
  <cp:revision>115</cp:revision>
  <dc:subject/>
  <dc:title>Microsoft Office 2007- Illustrated Introductory, Windows XP Edition</dc:title>
</cp:coreProperties>
</file>